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4024-634E-4DD2-9E86-926FDA6F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8CEE-D912-4A12-8CA0-0F3BEB79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1231-314B-408C-8FBE-B81244C2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1956-166D-46A6-B794-F1B3F166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20EC-D4E8-4AC9-934F-52CD3DA8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C717-C0C6-437D-AE85-AD288D66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8017-4559-4F2A-B5DB-C30627FA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F416-1110-4310-BDE5-12475BCD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E7A4-751D-48BC-9C68-B4C2DA4C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48A7-46B0-4233-9391-1639DC5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5402-3B32-420C-8AE9-A5DD44F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090D-D5D2-4747-9F4A-115AFCB4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DA40-0AD5-4192-BC37-2FABC0E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1DE7-E78A-4C81-ACCA-79DCEF2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CD52-A78F-4D26-B547-867676C1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640D-D79C-47CD-B1CF-46BB726C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2BC1-D920-4815-A1FA-59EB0773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6C0F-CF00-4F6C-A2C0-1C569FE5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8F49-EDC1-497D-AC7D-7AE29641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87E9-235B-45B5-865D-796C1FD2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4EEE-19A4-4E5A-93EC-9A3D9183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0972-DDE2-4DA5-A5D9-F8CBB07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AD2D-68F8-4CF0-AC34-9598E86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B23A-0379-459B-B228-5BBC78E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434-E4B7-4FB9-BE42-420EB88AF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8B33-1E46-4E3E-A746-C991993D3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P US History 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8 had haciendas and mis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4" descr="hacienda"/>
          <p:cNvPicPr/>
          <p:nvPr/>
        </p:nvPicPr>
        <p:blipFill>
          <a:blip r:embed="rId1"/>
          <a:stretch/>
        </p:blipFill>
        <p:spPr>
          <a:xfrm>
            <a:off x="685800" y="1371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Photo of CALIFORNIA MISSION. &#13;&#10;Santa Barbara Mission."/>
          <p:cNvPicPr/>
          <p:nvPr/>
        </p:nvPicPr>
        <p:blipFill>
          <a:blip r:embed="rId2"/>
          <a:stretch/>
        </p:blipFill>
        <p:spPr>
          <a:xfrm>
            <a:off x="4495680" y="3513240"/>
            <a:ext cx="426744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9 which country is associated with the founding of..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troi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ittsburgh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10 had an encomienda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encomienda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each question…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dentify whether it was the SPANISH, the FRENCH, or BOTH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1 built f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Photo of FRENCH: FORT CAROLINE, 1591. &#13;&#10;Plan of Fort Caroline on the St Johns River, built by the second French expedition to Florida in 1564: colored engraving, 1591, by Theodor de Bry after a now lost drawing by Jacques Le Moyne de Morgues."/>
          <p:cNvPicPr/>
          <p:nvPr/>
        </p:nvPicPr>
        <p:blipFill>
          <a:blip r:embed="rId1"/>
          <a:stretch/>
        </p:blipFill>
        <p:spPr>
          <a:xfrm>
            <a:off x="1523880" y="1219320"/>
            <a:ext cx="6400800" cy="54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2 converted Natives to Catholic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9" descr="Father_marquette_preaching"/>
          <p:cNvPicPr/>
          <p:nvPr/>
        </p:nvPicPr>
        <p:blipFill>
          <a:blip r:embed="rId1"/>
          <a:stretch/>
        </p:blipFill>
        <p:spPr>
          <a:xfrm>
            <a:off x="2133720" y="1752480"/>
            <a:ext cx="475596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3 looking for gold and p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000489060"/>
          <p:cNvPicPr/>
          <p:nvPr/>
        </p:nvPicPr>
        <p:blipFill>
          <a:blip r:embed="rId1"/>
          <a:stretch/>
        </p:blipFill>
        <p:spPr>
          <a:xfrm>
            <a:off x="2819520" y="1523880"/>
            <a:ext cx="34066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4 smallpox they brought killed 90% of the na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4" descr="Photo of AZTEC: SMALLPOX, 16th C. &#13;&#10;Aztec Indians, with smallpox contracted from the Spaniards, ministered to by a medicine man: illlustration from Father Bernardino de Sahagun's 16th century treatise, General History of the Things of New Spain."/>
          <p:cNvPicPr/>
          <p:nvPr/>
        </p:nvPicPr>
        <p:blipFill>
          <a:blip r:embed="rId1"/>
          <a:stretch/>
        </p:blipFill>
        <p:spPr>
          <a:xfrm>
            <a:off x="1676520" y="1612800"/>
            <a:ext cx="617220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5 primarily engaged in the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r tra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4" descr="Photo of CANADA: FUR TRADERS, 1777. &#13;&#10;Fur traders and Indians. Engraving after a detail from Gauthier and Faden's 'Map of Canada,' 1777."/>
          <p:cNvPicPr/>
          <p:nvPr/>
        </p:nvPicPr>
        <p:blipFill>
          <a:blip r:embed="rId1"/>
          <a:stretch/>
        </p:blipFill>
        <p:spPr>
          <a:xfrm>
            <a:off x="1066680" y="1828800"/>
            <a:ext cx="678204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6 intermarried with the na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4" descr="Photo of LA SALLE CLAIMING LOUISIANA &#13;&#10;for France, April 9, 1682. Oil on canvas, 1847, by George Catlin.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7 used local waterways with little settlement in c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0301_011201"/>
          <p:cNvPicPr/>
          <p:nvPr/>
        </p:nvPicPr>
        <p:blipFill>
          <a:blip r:embed="rId1"/>
          <a:stretch/>
        </p:blipFill>
        <p:spPr>
          <a:xfrm>
            <a:off x="1828800" y="1535040"/>
            <a:ext cx="6172200" cy="532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3:07:53Z</dcterms:created>
  <dc:creator>teacher</dc:creator>
  <dc:description/>
  <dc:language>en-US</dc:language>
  <cp:lastModifiedBy>Sacerdote, Kevin R.</cp:lastModifiedBy>
  <dcterms:modified xsi:type="dcterms:W3CDTF">2017-08-10T18:19:56Z</dcterms:modified>
  <cp:revision>5</cp:revision>
  <dc:subject/>
  <dc:title>AP US History  Bell-ringer</dc:title>
</cp:coreProperties>
</file>